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705D0-C5E5-4F7E-8BAE-7FDEECFD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54E31-80A0-4635-84C0-81A7618E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4A8CC-5D59-46DA-9C80-CF40EE9F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72701-EDAA-4510-8869-6D2E2D77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8B78-1ECD-4D59-BEE1-00FFBF0C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091E-CAE0-461E-8DD0-64CCB1F4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78DC-0227-4839-A139-D51E2462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6B08-A6DE-4FD2-B496-82F37B9B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2C87-43F9-47F5-88C2-BE05A8BC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468D-E473-40CA-AB58-376ACABE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6A9A-356E-4AB5-B0FD-07525DE7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8BD46-0CF0-4D4A-A967-E83978D3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8DD9-B33A-4151-A646-A9E4ACAC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5C41-5473-44BC-8253-A8103D60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D21B-5B16-4266-A1D0-8E228BBE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0606-549F-4030-8C80-E358C8B1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7D32-365F-44C5-8C75-9FD44BD0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FF9E2-BDBB-4EFB-8A90-B36464D3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E0D2B-10F3-4BB8-BA32-E724C8E6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822BE-71D6-41A8-8F96-D1187D50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5EC4B-9C71-4C93-B93E-4C0B185D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33A5C-E670-4D05-9FF8-1CAECFF9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5F0CF-F88B-44E3-9FF8-F1142E1A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6FBAA-C23A-41D1-8847-8B184430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8A84-7944-4305-B178-BA6148724C8F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FCBB-BE30-4E71-9926-D2AB7B175FE4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t.wikipedia.org/wiki/Ouro" TargetMode="External"/><Relationship Id="rId2" Type="http://schemas.openxmlformats.org/officeDocument/2006/relationships/hyperlink" Target="http://pt.wikipedia.org/wiki/Bronze" TargetMode="External"/><Relationship Id="rId3" Type="http://schemas.openxmlformats.org/officeDocument/2006/relationships/hyperlink" Target="http://pt.wikipedia.org/wiki/Marfim" TargetMode="External"/><Relationship Id="rId4" Type="http://schemas.openxmlformats.org/officeDocument/2006/relationships/hyperlink" Target="http://pt.wikipedia.org/wiki/Magia" TargetMode="External"/><Relationship Id="rId5" Type="http://schemas.openxmlformats.org/officeDocument/2006/relationships/hyperlink" Target="http://pt.wikipedia.org/wiki/M&#225;scara" TargetMode="External"/><Relationship Id="rId6" Type="http://schemas.openxmlformats.org/officeDocument/2006/relationships/hyperlink" Target="http://pt.wikipedia.org/wiki/Misticismo" TargetMode="External"/><Relationship Id="rId7" Type="http://schemas.openxmlformats.org/officeDocument/2006/relationships/hyperlink" Target="http://pt.wikipedia.org/wiki/Ritual" TargetMode="External"/><Relationship Id="rId8" Type="http://schemas.openxmlformats.org/officeDocument/2006/relationships/hyperlink" Target="http://pt.wikipedia.org/wiki/Funeral" TargetMode="External"/><Relationship Id="rId9" Type="http://schemas.openxmlformats.org/officeDocument/2006/relationships/hyperlink" Target="http://pt.wikipedia.org/wiki/Argila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Consciência Negra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balho de Histó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tribuição Cultural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O Dia da Consciência Negra é celebrado em 20 de Novembro no Brasil e é dedicado à reflexão sobre a inserção do negro na sociedade brasileir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A data foi escolhida por coincidir com o dia da morte de Zumbi dos Palmares, em 1695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o Dia da Consciência Negra procura ser uma data para se lembrar a resistência do negro à escravidão de forma geral, desde o primeiro transporte forçado de africanos para o solo brasileir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Algumas entidades como o Movimento Negro (o maior do gênero no país) organizam palestras e eventos educativos, visando principalmente crianças negras. Procura-se evitar o desenvolvimento do auto-preconceito, ou seja,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da inferiorização perante a sociedad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-461808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Religião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 índio e o negro,obrigados à aceitar a religião dos senhores,continuavam a crer nos seu Deuses e,os cultuavam,na clandestinidade.Descobertos,eram castigados severamente,muitos morreram,acusados de mandingas contra a Casa Gran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Lenda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 Batalha contra a Morte; Quem perde o corpo é a língua ;O homem-leão e o gado; A menina e o barril; O demônio que engolia vidas;Kigbo e os espíritos do mato; O homem que carrega a morte nas costas; A Viúva Velha; lendas européias como: Vikings, Celtas, Russas, Japones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Utensílio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escultura foi uma forma de arte muito utilizada pelos artistas africanos usando-se o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1"/>
              </a:rPr>
              <a:t>our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,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2"/>
              </a:rPr>
              <a:t>bronz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e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3"/>
              </a:rPr>
              <a:t>marfim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como matéria prima. Representando um disfarce para a incorporação dos espíritos e a possibilidade de adquirir forças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4"/>
              </a:rPr>
              <a:t>mágica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, as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5"/>
              </a:rPr>
              <a:t>máscara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têm um significado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6"/>
              </a:rPr>
              <a:t>místic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e importante na arte africana sendo usadas nos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7"/>
              </a:rPr>
              <a:t>rituai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e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8"/>
              </a:rPr>
              <a:t>funerai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. As máscaras são confeccionadas em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Garamond"/>
                <a:hlinkClick r:id="rId9"/>
              </a:rPr>
              <a:t>barr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, marfim, metais, mas o material mais utilizado é a madeira. Para estabelecer a purificação e a ligação com a entidade sagrada, são modeladas em segredo na selva. Visitando os museus da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Europa Ocidenta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é possível conhecer o maior acervo da arte antiga africana no mund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Hábitos Culinários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o se sabe, o continente africano é habitado por uma vasta gama de etnias e, portanto, de culturas, as quais, de norte a sul, são marcadas por suas especificidades. A diversidade cultural existente na África reflete-se também nos hábitos alimentares dos africanos e na preparação dos alimentos, ou seja, na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ulinária africana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dicionalmente, esta combina as frutas disponíveis nas localidades, grãos, vegetais, leite e carne. Porém, em algumas regiões do continente, o alimento tradicional predominante deriva do leite, como a coalhada e o soro. Alguns alimentos como o milho, a mandioca e a abóbora, originários da América, foram introduzidos na África pelos europeus, ao longo do século XVI. Lembramos também que as influências das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ulinárias árab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asiática e européia se fizeram sentir ao longo da história do continen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Nomes: Victor e Eduardo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5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Série: 7 Ano “B”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5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Nrs°: 07 e 24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7:04:32Z</dcterms:created>
  <dc:creator>SEDMS</dc:creator>
  <dc:description/>
  <dc:language>en-US</dc:language>
  <cp:lastModifiedBy>administradorr</cp:lastModifiedBy>
  <dcterms:modified xsi:type="dcterms:W3CDTF">2010-11-09T17:37:28Z</dcterms:modified>
  <cp:revision>2</cp:revision>
  <dc:subject/>
  <dc:title>Consciência Negra</dc:title>
</cp:coreProperties>
</file>